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BA86-0354-407A-983C-85E2503D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39C-9EAE-4930-AD6C-2432A943D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3535-C5A4-43F2-976D-36E8D202E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BEA-050A-47BC-A90D-5F7B45EF7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BAA-1808-449E-A82C-DCB6277C4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1A3-B489-4514-A243-50E7035FE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EE45-06AE-4F50-9EF2-B44F529EB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00E5-99DA-4FF2-BE3E-8D1205B74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1533-7CEC-4D12-8946-84D38AE82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9642CF-54D2-4736-A048-6E41711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ABEDEF-23E5-4FDF-892D-014F09F1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AE89F-90DC-45AE-B0F2-39C35161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FC672-F68A-47C0-9F5D-3CFA491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332890-54F2-4416-AD9B-F535C36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CDB60-5205-4F8D-BB84-3742CD3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2065E-C513-4291-91B5-F1BEDB96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9A2504-ED12-47AF-924A-D067A9E6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65767-52D4-4FF7-A908-DA05A9C3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83873-3C88-4784-B5C4-8A14BD56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BAD46-FB71-448A-A5AC-0698D53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7E9CA-9551-470F-A3B3-37EF68C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F8D3C-EA5E-480E-B328-628971B4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E58A3-6971-4E57-8CE0-CB422DE7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BA959-19EC-4362-AB4B-C415554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BA90F-4886-4363-97CC-A9805BE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E6406-A31B-4265-B443-87E9F04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1A1DE-F414-4FEA-AAD7-810DE09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4A77D-80C0-4C91-B879-F052D662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3ABE3-C336-4663-89E7-0E7BC12D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440C4-6D7D-4C32-AF56-A6F8F02C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213C61-E259-4531-82AD-9E30F13C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5B278F-AF62-4D36-9250-42BE5CAA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ACF1A7-50EB-4B97-94CF-48C9F10A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8483A-685D-461A-B064-0E39A7B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BA8BFD-903A-46C3-B12E-9E7ECA0D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6E6C51-5CFE-446E-B0B2-C77EF50F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9D5CA-D19A-4DD0-9C9A-038E419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9F48D1-513B-4231-832F-0A5B4BE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F93080-BCA3-4E66-A4D2-ABC5F49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E65F4-C524-44D1-8D4A-70FAAB25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A1B088-54E4-4916-A001-2B228331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5BF472-B7D5-4FD3-8D91-056D49B0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E6C02F-EC1C-4BFA-AC88-1B6EE519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2484D4-4844-4FB5-A90A-90A7012C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79FF9F-12C4-4E73-B647-C222711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0861AC-8A21-4A90-847A-5482776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44AD63-4BE1-4188-B7E8-D2608185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4AC91E-1D7E-45F8-BB70-D98B12B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D485CF-D9AB-4E90-8228-C67CFDBD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4BC5F4-9CE7-4767-BE37-B9FDCD8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68A7-A53A-4F48-ABA8-C8BE961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D4B67E-0B07-443E-86D3-7B1A3380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484045-AFB0-4413-9BFD-D06C500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3E7BB8-7941-49D5-A866-19D0EAB4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2D7B5E-0EDA-4E67-8EB9-20A4F084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EED77C-2142-420A-9781-6E0F2800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DC61-33E2-42F0-AED2-8223CAB7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7CA90-9DE4-4725-8C68-72D3FEAD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8981B-61FF-463C-A111-A5328028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3CC3E-30AC-48D3-AE84-8030D86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387BE-D95E-4512-8824-A9D5464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4BD9B-2402-41CA-A288-5A7FD7D2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A0A2-5A67-4DAC-8D82-DE04846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B5824-6CF6-4822-B842-431A8CF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96C82-48B4-4B6E-8B5C-3DEF95BC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E0DF7-73A4-4390-8D11-8F1B7A24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5AFB0-CBBF-4EC2-A16D-3229AC03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0832E-2F6A-489C-9F63-F7983E6D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E69E0-632A-4115-B845-7CAAF1DA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4CCC6-F444-4B23-8CDD-ED3A62A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A6590-9472-4CD6-BBB7-97A70E35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3D58A-479C-418F-988B-1DFF8B1B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9D8A7-8F55-4280-9BFA-CBAF0F3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CB02D-B00F-4B08-A02B-2950B871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3F0CB-A1B8-46E5-842E-0E997F5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D91CC-1D20-43C1-AB0F-7E9BF4C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11DA-A318-4E1F-9A06-BCBD0052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93AE5-5386-4F26-B4FC-78A59A76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3BBB2-5C1B-4286-B3DB-E505AF80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93613-06D6-4D31-82C0-F2D2CE3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D730F-951B-45F8-9233-0C198E1A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E90D9-D63A-40F7-A80F-195B931E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61F74-FC38-46E4-A2FA-623ED52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5B46A-B053-46FA-8C4A-EB6B8F3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0924C-7C7B-4519-891A-8D10C70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EA675-B82B-42C1-A860-FE57EA3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CE0A3-B613-43EC-A3BF-9D1D389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D51F9-6A7D-4B1A-B010-FC11DAA1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B2FF2-19D3-442B-81A1-7C91F889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49700-CD7D-4D4E-A390-19928E7A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247A9-E5CB-415C-9D05-7EA6FD76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5BCD9-56C6-4BE0-96C9-96730E4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645BB-E757-4D0E-A11A-91EF8BBF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EAEB8-2CDF-4312-9B0B-F54729B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93D1B-29E9-49F7-B4CE-CBFCEF85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266A3-0C98-4349-B7E1-40A7047C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E1EE1-D37A-4D57-BD53-FC9D2D19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BBFE5-0A66-4D28-BE79-88B9F2C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6D813-4F6A-47FF-B65E-66DDA00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92EE4-00A7-441E-9071-E7FF74B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74F80-78D5-4034-9C0D-C5693A31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2E1D5-9921-4E6B-961F-5FB6CA22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24257-0F7A-4186-B0ED-6847EFC8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D633B-9AA1-488C-BE73-64BB3E5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9B9EB-3502-42DB-A40A-0DE1761E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19A23-C25F-4725-BEC2-EF177A0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8DFD0-162D-45A6-9F5A-21A826F8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6F294-81AD-4970-88E6-4AF40D05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FD634-26A7-45F7-A1C2-FA6DDEE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55D4D-787F-43C5-9EA3-9042A98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32C31-A081-4F07-9078-36912DF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43D09-3AFF-46FF-9F13-9099622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8FBA7-F4DD-43BB-91EB-D6016912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454C5-AB00-4348-8BD3-73BE1592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ACEE0-2622-45D3-83E2-765FF358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85DC9-8E39-4654-96C2-F4CA8491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F6513-5E24-4B3F-9EEC-0494CB81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F1BC5-366B-4AEB-9825-4022AF70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DD701-39F4-493A-8BE7-0EE7743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88B97-533B-421C-BDF0-610907C8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5B8F7-A920-417F-BA39-5633AAD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FF208-8A4F-4BD8-9D91-3093337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A7202-0DF2-404E-8E9C-B989D9DA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A070A-8E01-42BB-9581-26AFC34B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BE4A8-6637-457B-BF51-5E6562CA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2BA21-94D1-486A-A7D4-7D03EF67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8E596-A833-4ED4-9D89-CAA10642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DCCE5-9708-4B1D-A99A-D86D278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0019B-5F96-4879-953F-CE2315DF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9617F-7537-479B-894A-696D01FF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C48A5-EE7F-4D65-8659-73F900D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576D89-2788-4627-94F0-13063D5E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09DDA-C1D5-4C74-8887-E6E5D2C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4078C-0A7A-4681-AA36-992D756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ABB71-D5E0-4833-B5DD-2500B27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1CD683-830A-4EF4-84D4-9540C2A2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DF6E5-F744-4825-90C9-C8BEA5B1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9E818-5D21-47B8-93FE-FA3957B0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60742-5FC1-4BC6-933D-9C8091B0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B0B73-370D-4F55-B068-7655BBB0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16BFE-170C-4D66-B232-0933E545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020F-F6BE-46CB-8E4C-F80031BF9B7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1959-6768-4DE0-A5C7-6DBED5DAD43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7CC-C5FB-472F-9C2D-CCB63300E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0E0D-1B40-4C7D-B715-7613450C3F1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DA0-9D6F-403E-8F5B-AF63265508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01B-A343-4ADF-AE42-5F3DC9758FC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AF7-07D7-4952-96A0-B44C174BEA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51EF-A660-47E0-93CF-46C9719CC34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0C6-FC08-435F-AAA9-21EC64EE20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5C6-C78D-48B7-BEF2-8A5BCBA1974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B4E-1E34-4F65-94EE-BDC65ACDC66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8F1-AFA4-4A8B-91C6-F2BD06919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62F0-B014-4186-8076-1B5329F3BDA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DD8-C71F-4A4F-9679-A702DB8774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05F-9A11-4F46-9749-82A7D9DA323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9601-D180-479C-AE03-5DB370FA84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F20F-5DCA-42F7-8A00-2CF4D77AE65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F1AB-489F-4DA3-ABB5-1392EE3AD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DA49-2DE0-4949-8948-2828FB2DA41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C9F1-72F3-49A3-AB94-7D7FD6762F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19F4-3467-4194-8E40-5B977256224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09B-9E02-42BC-BCEF-0B305A780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46784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Opportunities for leveraging with PPP (NAFAKA)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3809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J.Rus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NAFAKA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eans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ject staples value chain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urrently very active rice sector in Kilombero and Mvom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5 Components (in rice sector plan for ma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habilitating value ch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e productivity in the two 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trade and competi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partnerships (ACDI-VOCA, MVIWATA,FIPS, RUDI, C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ing income for vulnerable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ntry point: village level FO: Identify existing or non-exi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o assessment see area for strengthening/develop partnerships: district federated FOS (Apex producer, outgrowers, cooperatives in crop prod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ther-Baby Trials: variety, fertilizer (YAR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grodeal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ost-harvest: Storage, warehouse receipt systems; SAC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arkets (Kibaigwa):  Local assembly, central, bargaining, finance/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5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vestock:  FIPS Chicken vaccinations but sto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-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Baby trials no fertilizer. Mother trials use fertilizer YARA , Minjingu P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Comparative advantage of the CGIAR agricultural systems production research; Contractors (ACDI, Abt) in value ch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rogram document/work plan of AR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SAID wants the two types of implementers to cooperate: Which project goes the credit for the value chain work (not counting twice), once for each pro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valuation is in two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1 Technologies per se using a GxEXMXLX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CTs to go beyond plot level rando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2 delivery value chain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Quasi-experimental approaches (befor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after interventions and with and without interventions i.e. differenc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differences; propensity score matching; Instrumental Variabl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sess the value added NAFAKA/ABT/DAI with and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thout technologies from the CGIARs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fference can be attributed to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alue chain work/agricultural production systems research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209680" y="5638680"/>
            <a:ext cx="838440" cy="419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914400" y="61722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2971800" y="6019920"/>
            <a:ext cx="905040" cy="59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4"/>
          <a:stretch/>
        </p:blipFill>
        <p:spPr>
          <a:xfrm>
            <a:off x="3886200" y="6019920"/>
            <a:ext cx="1219320" cy="519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logo-new"/>
          <p:cNvPicPr/>
          <p:nvPr/>
        </p:nvPicPr>
        <p:blipFill>
          <a:blip r:embed="rId5"/>
          <a:stretch/>
        </p:blipFill>
        <p:spPr>
          <a:xfrm>
            <a:off x="6400800" y="5410080"/>
            <a:ext cx="79704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"/>
          <p:cNvPicPr/>
          <p:nvPr/>
        </p:nvPicPr>
        <p:blipFill>
          <a:blip r:embed="rId6"/>
          <a:stretch/>
        </p:blipFill>
        <p:spPr>
          <a:xfrm>
            <a:off x="152280" y="5638680"/>
            <a:ext cx="1133640" cy="534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5181480" y="5334120"/>
            <a:ext cx="1089000" cy="129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8"/>
          <a:stretch/>
        </p:blipFill>
        <p:spPr>
          <a:xfrm>
            <a:off x="7162920" y="563868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3T11:32:23Z</dcterms:modified>
  <cp:revision>867</cp:revision>
  <dc:subject/>
  <dc:title>PowerPoint Presentation</dc:title>
</cp:coreProperties>
</file>